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7F2C4A2-45C1-479A-8469-52A516A67F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F833B4E1-39AC-40C8-A23D-B808986B298E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1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2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4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6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67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SzPct val="75000"/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7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>Tanel Tammet</cp:lastModifiedBy>
  <dcterms:modified xsi:type="dcterms:W3CDTF">2022-09-02T08:16:24Z</dcterms:modified>
  <cp:revision>4</cp:revision>
  <dc:subject/>
  <dc:title> </dc:title>
</cp:coreProperties>
</file>